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1733"/>
          <a:stretch/>
        </p:blipFill>
        <p:spPr>
          <a:xfrm flipH="1" rot="21160800">
            <a:off x="2338200" y="200160"/>
            <a:ext cx="7412040" cy="6645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rcRect l="0" t="0" r="1168" b="1942"/>
          <a:stretch/>
        </p:blipFill>
        <p:spPr>
          <a:xfrm flipH="1" rot="970200">
            <a:off x="-151920" y="380520"/>
            <a:ext cx="4827600" cy="224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41008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lbertus Extra Bold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 rot="439200">
            <a:off x="990720" y="1447920"/>
            <a:ext cx="761976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0" y="4572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grating Technology Into The Social Studies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lbertus Extra Bold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439200">
            <a:off x="990720" y="1447920"/>
            <a:ext cx="7619760" cy="54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8108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grating Technology Into The Social Studies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1640" y="1676520"/>
            <a:ext cx="2057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amance-Burl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she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l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sa Mont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pel Hill-Carbo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rlotte-Mecklen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mb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it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ur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plo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05720" y="1676160"/>
            <a:ext cx="1828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uil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rn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ck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cD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w Ha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be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wan-Salsb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l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Y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41840" y="1219320"/>
            <a:ext cx="43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Charter Schools &amp; School Systems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 Narrow"/>
              </a:rPr>
              <a:t>Who is Eligible to particip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n order to participate in this professional development, participants will ne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b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A current Social Studies teacher in grades K-12, an Instructional Technology specialist, a school media coordinator, or a curriculum specialist at a NC public or charter school. You may also serve at an Institution of Higher Education as a professor in a Social Studies related area or the School of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 Narrow"/>
              </a:rPr>
              <a:t>Application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ubmit a Letter of Support from your supervisor and principal th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ncludes an agreement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Provide financial resources to cover registration and travel  ex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Pay for a substitute, if needed, for you to attend the training se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Allow time to deliver professional development during the year after training is completed, in which the participate trains </a:t>
            </a:r>
            <a:r>
              <a:rPr b="0" i="1" lang="en-US" sz="1000" spc="-1" strike="noStrike">
                <a:solidFill>
                  <a:srgbClr val="ffffff"/>
                </a:solidFill>
                <a:latin typeface="Arial Narrow"/>
              </a:rPr>
              <a:t>at least 10 social studies teachers in their school or distr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 Narrow"/>
              </a:rPr>
              <a:t>District Requirements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Each district or charter school will agree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Provide a Letter of Support from the participant’s Principal or appropriate supervisor indicating that they agree to the following requirem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Provide funding for necessary expenses incurred by participant (i.e. Lodging, food, travel, and registration fe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20:21Z</dcterms:created>
  <dc:creator>jmcinnis</dc:creator>
  <dc:description/>
  <dc:language>en-US</dc:language>
  <cp:lastModifiedBy>jmcinnis</cp:lastModifiedBy>
  <dcterms:modified xsi:type="dcterms:W3CDTF">2009-05-11T16:36:05Z</dcterms:modified>
  <cp:revision>43</cp:revision>
  <dc:subject/>
  <dc:title>Slide 1</dc:title>
</cp:coreProperties>
</file>